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EA9-3F36-4A95-AE9C-5E78D76F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9DD-4118-4F22-9B07-4623A72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DCE-5499-49AC-B067-9D3CEB7D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25B-AFFE-439F-9FDC-DE5A90FA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6B6-FEE4-4E2A-9680-1EC84D88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8E37-028A-434E-ACCE-B2B49095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D2AB-BCA5-4483-AD94-FB53BAD7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E439-DFF2-4264-866E-D422594B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77AB-82CD-47D9-BB2F-C5979429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2E5C-6D6E-4227-AA05-4FD3CADD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E2C0-5DBA-414A-8341-DDC3E66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C27-2E59-4E70-B012-C6F4031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8456-AB90-42D0-9CFF-23E2C6C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8577-A599-4D62-A16B-3CF40FED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D15F-A555-4033-B072-E2564BAA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A20D-19CF-4F19-969A-29F3B072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FC27-8DB1-465E-9EE3-B9E6D25E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6732-8D7F-4440-BA1F-35EDDC6B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7D7E-18E0-4E30-AA4B-595C6A4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E926-3280-450B-A86A-B0388600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1CE2-E3C3-4507-B0A7-FD252C3D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3AE6-B9AC-4B11-9A3B-9755791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0D2-991F-4CAB-97D8-1E688E69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50A1-B200-427D-9139-FE2B5A50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C394-1433-4685-B796-C0626DF6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1CD7-736F-4D45-A9BA-3D391ACF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BEECB-2E5F-4674-96F3-06E13DE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BA61-C136-40FA-A9A9-5F82BC89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5B75-D51D-46C4-9F84-56B0A619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AF64-5A78-4241-98D4-736C5E6E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963E-9EE0-4FA5-8AC8-A74C5C33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97A0-F5A3-4B46-A5C7-DDA1DA14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0182-8644-499D-9F40-0444C34D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BD1-E3A1-4A23-AC61-590A3CA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BB6F-67E9-4339-A1DE-7FE3EE46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C6D8-FC17-4DE6-A25B-ED656FD4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DE73-C4AB-479F-A6C4-826BB27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24655-88DB-4DAA-B12F-ADE8095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14BE-5A03-404E-BC8D-8AA032E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6698-4ECC-49D8-BA04-95F75B5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6E3E-E404-4818-AD4D-8E90D2B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34DD-D022-44C3-846D-69B30C1F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3A3E0-5FCD-433F-8F1B-06FEFAAF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7E867-5DF5-4D23-91A6-BBA88547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6B8-2BB8-4AD8-9EE3-1997CD00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ADC8-A7F2-4490-8EFE-A6E4A4B5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45C1-5357-4938-9D82-FFFC773E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BA71-E5F4-4C96-B151-A0512FEF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60D7-F285-49F3-8F6B-19D07BAB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AAFFB-DB7E-4C6F-B602-AC5BF34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967F-0380-49AD-8DE3-0AD5796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0892-72C0-48D0-A8D4-261069B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743A6-C025-4A86-87BE-90B5FF1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096AA-04E5-4A2A-A7FC-6AF53DF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F7BD-D91B-41F9-8A37-B63BAAC3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8D1-FA6E-40A6-9957-FF7580EF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8066-278F-46D4-8C6A-0F6A1154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3EE-C65C-4804-8F9F-B1A423D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180-5CDC-4C9B-B97B-0EE1DF5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1E9-94B2-4E57-8B2E-AEF4C46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CC3A-633A-44DC-B303-F584DEE21DFF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A733-AEAD-46E8-9424-86E33CC27ECD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C060-EC30-4475-BC73-4EAD1E21A210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E21D-5B02-4A79-BB83-64FEB5201521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4E73-8EF1-4DE1-B213-FCBE8463FDC3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E695-EA49-4BA3-A101-FE64B3EB9471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2ED6-D493-4FDF-9B61-D8E78C659B02}" type="datetime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76F4-07EE-4D3F-9FF0-4690AEF85FF7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3FD6-D33E-4E5C-A2D3-B28CE76DB846}" type="datetime">
              <a:rPr b="0" lang="en-US" sz="1100" spc="-1" strike="noStrike">
                <a:solidFill>
                  <a:srgbClr val="6d6452"/>
                </a:solidFill>
                <a:latin typeface="Book Antiqua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3350-EAD9-440B-B1B4-3E6C105AA3C8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57200"/>
            <a:ext cx="814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02c24"/>
                </a:solidFill>
                <a:uFillTx/>
                <a:latin typeface="Book Antiqua"/>
              </a:rPr>
              <a:t>Cash Receipts Journal</a:t>
            </a: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Used by corporations to record only cash receipt transactions.</a:t>
            </a:r>
            <a:br>
              <a:rPr sz="2600"/>
            </a:br>
            <a:br>
              <a:rPr sz="2600"/>
            </a:br>
            <a:r>
              <a:rPr b="1" lang="en-US" sz="2600" spc="-1" strike="noStrike" u="sng">
                <a:solidFill>
                  <a:srgbClr val="302c24"/>
                </a:solidFill>
                <a:uFillTx/>
                <a:latin typeface="Book Antiqua"/>
              </a:rPr>
              <a:t>Most Cash Receipts are:</a:t>
            </a:r>
            <a:br>
              <a:rPr sz="2600"/>
            </a:b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1.) Cash and Credit Card Sales</a:t>
            </a:r>
            <a:br>
              <a:rPr sz="2600"/>
            </a:b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302c24"/>
                </a:solidFill>
                <a:latin typeface="Book Antiqua"/>
              </a:rPr>
              <a:t>2.) Cash Received from Customers on Account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302c24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02c24"/>
                </a:solidFill>
                <a:latin typeface="Book Antiqua"/>
              </a:rPr>
              <a:t>JOURNALIZING CASH AND CREDIT CARD SALES</a:t>
            </a:r>
            <a:endParaRPr b="0" lang="en-US" sz="45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676520"/>
            <a:ext cx="8229600" cy="703800"/>
          </a:xfrm>
          <a:prstGeom prst="rect">
            <a:avLst/>
          </a:prstGeom>
          <a:gradFill rotWithShape="0">
            <a:gsLst>
              <a:gs pos="0">
                <a:srgbClr val="f27b0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March 1. Recorded cash and credit card sales $2,480.00, plus sales tax, $198.40; total $2,678.40. Cash register tape No. 1.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2514600"/>
            <a:ext cx="2819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Sales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Accounts Payabl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373880" y="2508120"/>
            <a:ext cx="1295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697360" y="2514600"/>
            <a:ext cx="1295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Increased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639960" y="2514600"/>
            <a:ext cx="1676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433760" y="4751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5443920" y="4970520"/>
            <a:ext cx="1961280" cy="441360"/>
            <a:chOff x="5443920" y="4970520"/>
            <a:chExt cx="1961280" cy="441360"/>
          </a:xfrm>
        </p:grpSpPr>
        <p:sp>
          <p:nvSpPr>
            <p:cNvPr id="216" name="Text Box 10"/>
            <p:cNvSpPr/>
            <p:nvPr/>
          </p:nvSpPr>
          <p:spPr>
            <a:xfrm>
              <a:off x="5443920" y="50436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2c24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5805360" y="497052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2c24"/>
                  </a:solidFill>
                  <a:latin typeface="Arial"/>
                </a:rPr>
                <a:t>2,480.00</a:t>
              </a:r>
              <a:endParaRPr b="0" lang="en-US" sz="18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sp>
        <p:nvSpPr>
          <p:cNvPr id="218" name="Text Box 12"/>
          <p:cNvSpPr/>
          <p:nvPr/>
        </p:nvSpPr>
        <p:spPr>
          <a:xfrm>
            <a:off x="496800" y="4751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874080" y="5037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2,678.40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518400" y="49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5942880" y="492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419720" y="58244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6511320" y="6110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c24"/>
                </a:solidFill>
                <a:latin typeface="Arial"/>
              </a:rPr>
              <a:t>198.40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5965200" y="5992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225" name="Group 38"/>
          <p:cNvGrpSpPr/>
          <p:nvPr/>
        </p:nvGrpSpPr>
        <p:grpSpPr>
          <a:xfrm>
            <a:off x="573120" y="4296960"/>
            <a:ext cx="6756480" cy="2092680"/>
            <a:chOff x="573120" y="4296960"/>
            <a:chExt cx="6756480" cy="2092680"/>
          </a:xfrm>
        </p:grpSpPr>
        <p:grpSp>
          <p:nvGrpSpPr>
            <p:cNvPr id="226" name="Group 20"/>
            <p:cNvGrpSpPr/>
            <p:nvPr/>
          </p:nvGrpSpPr>
          <p:grpSpPr>
            <a:xfrm>
              <a:off x="4510080" y="4296960"/>
              <a:ext cx="2819520" cy="1019520"/>
              <a:chOff x="4510080" y="4296960"/>
              <a:chExt cx="2819520" cy="1019520"/>
            </a:xfrm>
          </p:grpSpPr>
          <p:sp>
            <p:nvSpPr>
              <p:cNvPr id="227" name="Text Box 21"/>
              <p:cNvSpPr/>
              <p:nvPr/>
            </p:nvSpPr>
            <p:spPr>
              <a:xfrm>
                <a:off x="5533200" y="4296960"/>
                <a:ext cx="750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02c24"/>
                    </a:solidFill>
                    <a:latin typeface="Arial"/>
                  </a:rPr>
                  <a:t>Sales</a:t>
                </a:r>
                <a:endParaRPr b="0" lang="en-US" sz="18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28" name="Group 22"/>
              <p:cNvGrpSpPr/>
              <p:nvPr/>
            </p:nvGrpSpPr>
            <p:grpSpPr>
              <a:xfrm>
                <a:off x="4510080" y="4782960"/>
                <a:ext cx="2819520" cy="533520"/>
                <a:chOff x="4510080" y="4782960"/>
                <a:chExt cx="2819520" cy="533520"/>
              </a:xfrm>
            </p:grpSpPr>
            <p:sp>
              <p:nvSpPr>
                <p:cNvPr id="229" name="Line 23"/>
                <p:cNvSpPr/>
                <p:nvPr/>
              </p:nvSpPr>
              <p:spPr>
                <a:xfrm>
                  <a:off x="4510080" y="478296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5919840" y="478296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Group 25"/>
            <p:cNvGrpSpPr/>
            <p:nvPr/>
          </p:nvGrpSpPr>
          <p:grpSpPr>
            <a:xfrm>
              <a:off x="573120" y="4296960"/>
              <a:ext cx="2819520" cy="1019520"/>
              <a:chOff x="573120" y="4296960"/>
              <a:chExt cx="2819520" cy="1019520"/>
            </a:xfrm>
          </p:grpSpPr>
          <p:sp>
            <p:nvSpPr>
              <p:cNvPr id="232" name="Text Box 26"/>
              <p:cNvSpPr/>
              <p:nvPr/>
            </p:nvSpPr>
            <p:spPr>
              <a:xfrm>
                <a:off x="1509120" y="4296960"/>
                <a:ext cx="7124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02c24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33" name="Group 27"/>
              <p:cNvGrpSpPr/>
              <p:nvPr/>
            </p:nvGrpSpPr>
            <p:grpSpPr>
              <a:xfrm>
                <a:off x="573120" y="4782960"/>
                <a:ext cx="2819520" cy="533520"/>
                <a:chOff x="573120" y="4782960"/>
                <a:chExt cx="2819520" cy="53352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573120" y="478296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1982880" y="478296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Group 32"/>
            <p:cNvGrpSpPr/>
            <p:nvPr/>
          </p:nvGrpSpPr>
          <p:grpSpPr>
            <a:xfrm>
              <a:off x="4495680" y="5370120"/>
              <a:ext cx="2819520" cy="1019520"/>
              <a:chOff x="4495680" y="5370120"/>
              <a:chExt cx="2819520" cy="1019520"/>
            </a:xfrm>
          </p:grpSpPr>
          <p:sp>
            <p:nvSpPr>
              <p:cNvPr id="237" name="Text Box 33"/>
              <p:cNvSpPr/>
              <p:nvPr/>
            </p:nvSpPr>
            <p:spPr>
              <a:xfrm>
                <a:off x="4746600" y="5370120"/>
                <a:ext cx="2082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02c24"/>
                    </a:solidFill>
                    <a:latin typeface="Arial"/>
                  </a:rPr>
                  <a:t>Sales Tax Payable</a:t>
                </a:r>
                <a:endParaRPr b="0" lang="en-US" sz="18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38" name="Group 34"/>
              <p:cNvGrpSpPr/>
              <p:nvPr/>
            </p:nvGrpSpPr>
            <p:grpSpPr>
              <a:xfrm>
                <a:off x="4495680" y="5856120"/>
                <a:ext cx="2819520" cy="533520"/>
                <a:chOff x="4495680" y="5856120"/>
                <a:chExt cx="2819520" cy="533520"/>
              </a:xfrm>
            </p:grpSpPr>
            <p:sp>
              <p:nvSpPr>
                <p:cNvPr id="239" name="Line 35"/>
                <p:cNvSpPr/>
                <p:nvPr/>
              </p:nvSpPr>
              <p:spPr>
                <a:xfrm>
                  <a:off x="4495680" y="5856120"/>
                  <a:ext cx="281952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36"/>
                <p:cNvSpPr/>
                <p:nvPr/>
              </p:nvSpPr>
              <p:spPr>
                <a:xfrm>
                  <a:off x="5905440" y="5856120"/>
                  <a:ext cx="0" cy="533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1" name="Text Box 37"/>
          <p:cNvSpPr/>
          <p:nvPr/>
        </p:nvSpPr>
        <p:spPr>
          <a:xfrm>
            <a:off x="7344360" y="70095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3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8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02c24"/>
                </a:solidFill>
                <a:latin typeface="Book Antiqua"/>
              </a:rPr>
              <a:t>JOURNALIZING CASH AND CREDIT CARD SALES</a:t>
            </a:r>
            <a:endParaRPr b="0" lang="en-US" sz="37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43" name="Picture 5" descr="D:\C21 PowerPoint\Multi_Journal\art for blue\Ch19\Ch19-02a.jpg"/>
          <p:cNvPicPr/>
          <p:nvPr/>
        </p:nvPicPr>
        <p:blipFill>
          <a:blip r:embed="rId2"/>
          <a:srcRect l="0" t="0" r="0" b="67857"/>
          <a:stretch/>
        </p:blipFill>
        <p:spPr>
          <a:xfrm>
            <a:off x="457200" y="1477800"/>
            <a:ext cx="8153280" cy="3105360"/>
          </a:xfrm>
          <a:prstGeom prst="rect">
            <a:avLst/>
          </a:prstGeom>
          <a:ln w="0">
            <a:noFill/>
          </a:ln>
        </p:spPr>
      </p:pic>
      <p:sp>
        <p:nvSpPr>
          <p:cNvPr id="244" name="Oval 6"/>
          <p:cNvSpPr/>
          <p:nvPr/>
        </p:nvSpPr>
        <p:spPr>
          <a:xfrm>
            <a:off x="480060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152280" y="3611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2133720" y="391644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312408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1219320" y="4221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514440" y="561024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ash Register Tape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514440" y="4871880"/>
            <a:ext cx="23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514440" y="6278400"/>
            <a:ext cx="22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heck Mark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514440" y="52372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heck Mark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411360" y="486576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Sales Amount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3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411360" y="52308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Sales Tax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411360" y="5605560"/>
            <a:ext cx="32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Total Cash and Credit Card Receipts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7" name="Oval 19"/>
          <p:cNvSpPr/>
          <p:nvPr/>
        </p:nvSpPr>
        <p:spPr>
          <a:xfrm>
            <a:off x="6207120" y="4221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8" name="Oval 20"/>
          <p:cNvSpPr/>
          <p:nvPr/>
        </p:nvSpPr>
        <p:spPr>
          <a:xfrm>
            <a:off x="7391520" y="4221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59" name="Freeform 21"/>
          <p:cNvSpPr/>
          <p:nvPr/>
        </p:nvSpPr>
        <p:spPr>
          <a:xfrm>
            <a:off x="990720" y="2316240"/>
            <a:ext cx="2514600" cy="16002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0" name="Freeform 22"/>
          <p:cNvSpPr/>
          <p:nvPr/>
        </p:nvSpPr>
        <p:spPr>
          <a:xfrm>
            <a:off x="1905120" y="2316240"/>
            <a:ext cx="2514600" cy="152388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1" name="Freeform 23"/>
          <p:cNvSpPr/>
          <p:nvPr/>
        </p:nvSpPr>
        <p:spPr>
          <a:xfrm>
            <a:off x="3581280" y="2316240"/>
            <a:ext cx="1447920" cy="13716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2" name="Freeform 24"/>
          <p:cNvSpPr/>
          <p:nvPr/>
        </p:nvSpPr>
        <p:spPr>
          <a:xfrm>
            <a:off x="4800600" y="2316240"/>
            <a:ext cx="838080" cy="13716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3" name="Freeform 25"/>
          <p:cNvSpPr/>
          <p:nvPr/>
        </p:nvSpPr>
        <p:spPr>
          <a:xfrm>
            <a:off x="5715000" y="2316240"/>
            <a:ext cx="1295280" cy="152388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4" name="Freeform 26"/>
          <p:cNvSpPr/>
          <p:nvPr/>
        </p:nvSpPr>
        <p:spPr>
          <a:xfrm>
            <a:off x="6934320" y="2316240"/>
            <a:ext cx="1295280" cy="13716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74840"/>
            <a:ext cx="814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02c24"/>
                </a:solidFill>
                <a:uFillTx/>
                <a:latin typeface="Book Antiqua"/>
              </a:rPr>
              <a:t>Sales Discount </a:t>
            </a: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– A cash discount on a sale on account.  Used to encourage prompt payment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The </a:t>
            </a:r>
            <a:r>
              <a:rPr b="1" lang="en-US" sz="3000" spc="-1" strike="noStrike" u="sng">
                <a:solidFill>
                  <a:srgbClr val="302c24"/>
                </a:solidFill>
                <a:uFillTx/>
                <a:latin typeface="Book Antiqua"/>
              </a:rPr>
              <a:t>sales tax</a:t>
            </a:r>
            <a:r>
              <a:rPr b="1" lang="en-US" sz="3000" spc="-1" strike="noStrike">
                <a:solidFill>
                  <a:srgbClr val="302c24"/>
                </a:solidFill>
                <a:latin typeface="Book Antiqua"/>
              </a:rPr>
              <a:t> </a:t>
            </a: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is only taken on cash received. 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302c24"/>
                </a:solidFill>
                <a:latin typeface="Book Antiqua"/>
              </a:rPr>
              <a:t>Therefore, the corporation waits until it has received payment to record the sales tax amount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302c24"/>
                </a:solidFill>
                <a:latin typeface="Book Antiqua"/>
              </a:rPr>
              <a:t>Sales Discounts are a contra account to sales.</a:t>
            </a:r>
            <a:endParaRPr b="0" lang="en-US" sz="3000" spc="-1" strike="noStrike">
              <a:solidFill>
                <a:srgbClr val="302c24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5084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02c24"/>
                </a:solidFill>
                <a:latin typeface="Book Antiqua"/>
              </a:rPr>
              <a:t>JOURNALIZING CASH RECEIPTS ON ACCOUNT WITH SALES DISCOUNTS</a:t>
            </a:r>
            <a:endParaRPr b="0" lang="en-US" sz="29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927000"/>
            <a:ext cx="8458200" cy="824040"/>
          </a:xfrm>
          <a:prstGeom prst="rect">
            <a:avLst/>
          </a:prstGeom>
          <a:solidFill>
            <a:srgbClr val="302c2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March 11. Received cash on account from Tennis Castle, $1,924.56, covering Sales Invoice No. 176 for $1,944.00 ($1,800.00 plus sales tax, $144.00), less 1% discount, $18.00, and less sales tax, $1.44. Receipt No. 297.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57200" y="172404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Cash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Sales Discount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Sales Tax Payabl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2c24"/>
                </a:solidFill>
                <a:latin typeface="Arial"/>
              </a:rPr>
              <a:t>Accounts Receivabl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373880" y="1717560"/>
            <a:ext cx="129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bit side 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bit sid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bit sid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Credit sid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5697360" y="172404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Increased 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Increas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creas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Decreased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639960" y="1724040"/>
            <a:ext cx="1676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Contra revenue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57200" y="3809880"/>
            <a:ext cx="26352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      1,924.56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61200" y="366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4" name="Rectangle 15"/>
          <p:cNvSpPr/>
          <p:nvPr/>
        </p:nvSpPr>
        <p:spPr>
          <a:xfrm flipV="1">
            <a:off x="8597160" y="3669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61200" y="439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6" name="Text Box 45"/>
          <p:cNvSpPr/>
          <p:nvPr/>
        </p:nvSpPr>
        <p:spPr>
          <a:xfrm>
            <a:off x="565200" y="5475240"/>
            <a:ext cx="210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144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7" name="Rectangle 46"/>
          <p:cNvSpPr/>
          <p:nvPr/>
        </p:nvSpPr>
        <p:spPr>
          <a:xfrm flipV="1">
            <a:off x="97560" y="528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8" name="Text Box 47"/>
          <p:cNvSpPr/>
          <p:nvPr/>
        </p:nvSpPr>
        <p:spPr>
          <a:xfrm>
            <a:off x="6783480" y="377496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1,944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57200" y="4692600"/>
            <a:ext cx="2101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18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533520" y="44197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569880" y="5288040"/>
            <a:ext cx="415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4816440" y="3592440"/>
            <a:ext cx="379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96800" y="3592440"/>
            <a:ext cx="41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4" name="Text Box 48"/>
          <p:cNvSpPr/>
          <p:nvPr/>
        </p:nvSpPr>
        <p:spPr>
          <a:xfrm>
            <a:off x="566640" y="6126120"/>
            <a:ext cx="41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2c24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285" name="Rectangle 56"/>
          <p:cNvSpPr/>
          <p:nvPr/>
        </p:nvSpPr>
        <p:spPr>
          <a:xfrm flipV="1">
            <a:off x="4556880" y="6123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c24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286" name="Group 70"/>
          <p:cNvGrpSpPr/>
          <p:nvPr/>
        </p:nvGrpSpPr>
        <p:grpSpPr>
          <a:xfrm>
            <a:off x="304920" y="2965320"/>
            <a:ext cx="8534160" cy="3740400"/>
            <a:chOff x="304920" y="2965320"/>
            <a:chExt cx="8534160" cy="3740400"/>
          </a:xfrm>
        </p:grpSpPr>
        <p:grpSp>
          <p:nvGrpSpPr>
            <p:cNvPr id="287" name="Group 69"/>
            <p:cNvGrpSpPr/>
            <p:nvPr/>
          </p:nvGrpSpPr>
          <p:grpSpPr>
            <a:xfrm>
              <a:off x="4495680" y="2971800"/>
              <a:ext cx="4343400" cy="1161720"/>
              <a:chOff x="4495680" y="2971800"/>
              <a:chExt cx="4343400" cy="1161720"/>
            </a:xfrm>
          </p:grpSpPr>
          <p:sp>
            <p:nvSpPr>
              <p:cNvPr id="288" name="Text Box 22"/>
              <p:cNvSpPr/>
              <p:nvPr/>
            </p:nvSpPr>
            <p:spPr>
              <a:xfrm>
                <a:off x="4495680" y="2971800"/>
                <a:ext cx="434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ACCOUNTS RECEIVABLE LEDGER</a:t>
                </a:r>
                <a:endParaRPr b="0" lang="en-US" sz="1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89" name="Group 61"/>
              <p:cNvGrpSpPr/>
              <p:nvPr/>
            </p:nvGrpSpPr>
            <p:grpSpPr>
              <a:xfrm>
                <a:off x="4876920" y="3129120"/>
                <a:ext cx="3658320" cy="1004400"/>
                <a:chOff x="4876920" y="3129120"/>
                <a:chExt cx="3658320" cy="1004400"/>
              </a:xfrm>
            </p:grpSpPr>
            <p:sp>
              <p:nvSpPr>
                <p:cNvPr id="290" name="Text Box 11"/>
                <p:cNvSpPr/>
                <p:nvPr/>
              </p:nvSpPr>
              <p:spPr>
                <a:xfrm>
                  <a:off x="4876920" y="3774960"/>
                  <a:ext cx="198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3651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Mar. 2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	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1,944.00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Group 24"/>
                <p:cNvGrpSpPr/>
                <p:nvPr/>
              </p:nvGrpSpPr>
              <p:grpSpPr>
                <a:xfrm>
                  <a:off x="4876920" y="3129120"/>
                  <a:ext cx="3658320" cy="1004400"/>
                  <a:chOff x="4876920" y="3129120"/>
                  <a:chExt cx="3658320" cy="1004400"/>
                </a:xfrm>
              </p:grpSpPr>
              <p:sp>
                <p:nvSpPr>
                  <p:cNvPr id="292" name="Text Box 25"/>
                  <p:cNvSpPr/>
                  <p:nvPr/>
                </p:nvSpPr>
                <p:spPr>
                  <a:xfrm>
                    <a:off x="5974200" y="3129120"/>
                    <a:ext cx="1422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02c24"/>
                        </a:solidFill>
                        <a:latin typeface="Arial"/>
                      </a:rPr>
                      <a:t>Tennis Castle</a:t>
                    </a:r>
                    <a:endParaRPr b="0" lang="en-US" sz="16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3" name="Group 26"/>
                  <p:cNvGrpSpPr/>
                  <p:nvPr/>
                </p:nvGrpSpPr>
                <p:grpSpPr>
                  <a:xfrm>
                    <a:off x="4876920" y="3600360"/>
                    <a:ext cx="3658320" cy="533160"/>
                    <a:chOff x="4876920" y="3600360"/>
                    <a:chExt cx="3658320" cy="533160"/>
                  </a:xfrm>
                </p:grpSpPr>
                <p:sp>
                  <p:nvSpPr>
                    <p:cNvPr id="294" name="Line 27"/>
                    <p:cNvSpPr/>
                    <p:nvPr/>
                  </p:nvSpPr>
                  <p:spPr>
                    <a:xfrm>
                      <a:off x="4876920" y="3600360"/>
                      <a:ext cx="36583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Line 28"/>
                    <p:cNvSpPr/>
                    <p:nvPr/>
                  </p:nvSpPr>
                  <p:spPr>
                    <a:xfrm>
                      <a:off x="6706080" y="36003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6" name="Group 62"/>
            <p:cNvGrpSpPr/>
            <p:nvPr/>
          </p:nvGrpSpPr>
          <p:grpSpPr>
            <a:xfrm>
              <a:off x="304920" y="2965320"/>
              <a:ext cx="4495680" cy="3740400"/>
              <a:chOff x="304920" y="2965320"/>
              <a:chExt cx="4495680" cy="3740400"/>
            </a:xfrm>
          </p:grpSpPr>
          <p:sp>
            <p:nvSpPr>
              <p:cNvPr id="297" name="Text Box 21"/>
              <p:cNvSpPr/>
              <p:nvPr/>
            </p:nvSpPr>
            <p:spPr>
              <a:xfrm>
                <a:off x="1654920" y="2965320"/>
                <a:ext cx="184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GENERAL LEDGER</a:t>
                </a:r>
                <a:endParaRPr b="0" lang="en-US" sz="1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grpSp>
            <p:nvGrpSpPr>
              <p:cNvPr id="298" name="Group 29"/>
              <p:cNvGrpSpPr/>
              <p:nvPr/>
            </p:nvGrpSpPr>
            <p:grpSpPr>
              <a:xfrm>
                <a:off x="457200" y="3129120"/>
                <a:ext cx="4266360" cy="1004760"/>
                <a:chOff x="457200" y="3129120"/>
                <a:chExt cx="4266360" cy="1004760"/>
              </a:xfrm>
            </p:grpSpPr>
            <p:sp>
              <p:nvSpPr>
                <p:cNvPr id="299" name="Text Box 30"/>
                <p:cNvSpPr/>
                <p:nvPr/>
              </p:nvSpPr>
              <p:spPr>
                <a:xfrm>
                  <a:off x="2085120" y="3129120"/>
                  <a:ext cx="654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02c24"/>
                      </a:solidFill>
                      <a:latin typeface="Arial"/>
                    </a:rPr>
                    <a:t>Cash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Group 31"/>
                <p:cNvGrpSpPr/>
                <p:nvPr/>
              </p:nvGrpSpPr>
              <p:grpSpPr>
                <a:xfrm>
                  <a:off x="457200" y="3600360"/>
                  <a:ext cx="4266360" cy="533520"/>
                  <a:chOff x="457200" y="3600360"/>
                  <a:chExt cx="4266360" cy="533520"/>
                </a:xfrm>
              </p:grpSpPr>
              <p:sp>
                <p:nvSpPr>
                  <p:cNvPr id="301" name="Line 32"/>
                  <p:cNvSpPr/>
                  <p:nvPr/>
                </p:nvSpPr>
                <p:spPr>
                  <a:xfrm>
                    <a:off x="457200" y="3600360"/>
                    <a:ext cx="426636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Line 33"/>
                  <p:cNvSpPr/>
                  <p:nvPr/>
                </p:nvSpPr>
                <p:spPr>
                  <a:xfrm>
                    <a:off x="2590200" y="360036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Group 34"/>
              <p:cNvGrpSpPr/>
              <p:nvPr/>
            </p:nvGrpSpPr>
            <p:grpSpPr>
              <a:xfrm>
                <a:off x="457200" y="3962520"/>
                <a:ext cx="4266360" cy="1004760"/>
                <a:chOff x="457200" y="3962520"/>
                <a:chExt cx="4266360" cy="1004760"/>
              </a:xfrm>
            </p:grpSpPr>
            <p:sp>
              <p:nvSpPr>
                <p:cNvPr id="304" name="Text Box 35"/>
                <p:cNvSpPr/>
                <p:nvPr/>
              </p:nvSpPr>
              <p:spPr>
                <a:xfrm>
                  <a:off x="1645200" y="3962520"/>
                  <a:ext cx="15372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02c24"/>
                      </a:solidFill>
                      <a:latin typeface="Arial"/>
                    </a:rPr>
                    <a:t>Sales Discount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Group 36"/>
                <p:cNvGrpSpPr/>
                <p:nvPr/>
              </p:nvGrpSpPr>
              <p:grpSpPr>
                <a:xfrm>
                  <a:off x="457200" y="4433760"/>
                  <a:ext cx="4266360" cy="533520"/>
                  <a:chOff x="457200" y="4433760"/>
                  <a:chExt cx="4266360" cy="533520"/>
                </a:xfrm>
              </p:grpSpPr>
              <p:sp>
                <p:nvSpPr>
                  <p:cNvPr id="306" name="Line 37"/>
                  <p:cNvSpPr/>
                  <p:nvPr/>
                </p:nvSpPr>
                <p:spPr>
                  <a:xfrm>
                    <a:off x="457200" y="4433760"/>
                    <a:ext cx="426636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Line 38"/>
                  <p:cNvSpPr/>
                  <p:nvPr/>
                </p:nvSpPr>
                <p:spPr>
                  <a:xfrm>
                    <a:off x="2590200" y="443376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Group 60"/>
              <p:cNvGrpSpPr/>
              <p:nvPr/>
            </p:nvGrpSpPr>
            <p:grpSpPr>
              <a:xfrm>
                <a:off x="304920" y="5654520"/>
                <a:ext cx="4415760" cy="1051200"/>
                <a:chOff x="304920" y="5654520"/>
                <a:chExt cx="4415760" cy="1051200"/>
              </a:xfrm>
            </p:grpSpPr>
            <p:grpSp>
              <p:nvGrpSpPr>
                <p:cNvPr id="309" name="Group 50"/>
                <p:cNvGrpSpPr/>
                <p:nvPr/>
              </p:nvGrpSpPr>
              <p:grpSpPr>
                <a:xfrm>
                  <a:off x="453960" y="5654520"/>
                  <a:ext cx="4266720" cy="1004760"/>
                  <a:chOff x="453960" y="5654520"/>
                  <a:chExt cx="4266720" cy="1004760"/>
                </a:xfrm>
              </p:grpSpPr>
              <p:sp>
                <p:nvSpPr>
                  <p:cNvPr id="310" name="Text Box 51"/>
                  <p:cNvSpPr/>
                  <p:nvPr/>
                </p:nvSpPr>
                <p:spPr>
                  <a:xfrm>
                    <a:off x="1372320" y="5654520"/>
                    <a:ext cx="207972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02c24"/>
                        </a:solidFill>
                        <a:latin typeface="Arial"/>
                      </a:rPr>
                      <a:t>Accounts Receivable</a:t>
                    </a:r>
                    <a:endParaRPr b="0" lang="en-US" sz="16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" name="Group 52"/>
                  <p:cNvGrpSpPr/>
                  <p:nvPr/>
                </p:nvGrpSpPr>
                <p:grpSpPr>
                  <a:xfrm>
                    <a:off x="453960" y="6125760"/>
                    <a:ext cx="4266720" cy="533520"/>
                    <a:chOff x="453960" y="6125760"/>
                    <a:chExt cx="4266720" cy="533520"/>
                  </a:xfrm>
                </p:grpSpPr>
                <p:sp>
                  <p:nvSpPr>
                    <p:cNvPr id="312" name="Line 53"/>
                    <p:cNvSpPr/>
                    <p:nvPr/>
                  </p:nvSpPr>
                  <p:spPr>
                    <a:xfrm>
                      <a:off x="453960" y="6125760"/>
                      <a:ext cx="426672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Line 54"/>
                    <p:cNvSpPr/>
                    <p:nvPr/>
                  </p:nvSpPr>
                  <p:spPr>
                    <a:xfrm>
                      <a:off x="2587320" y="612576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4" name="Text Box 55"/>
                <p:cNvSpPr/>
                <p:nvPr/>
              </p:nvSpPr>
              <p:spPr>
                <a:xfrm>
                  <a:off x="304920" y="6389640"/>
                  <a:ext cx="2590560" cy="31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Mar. 2        1,944.00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Group 59"/>
              <p:cNvGrpSpPr/>
              <p:nvPr/>
            </p:nvGrpSpPr>
            <p:grpSpPr>
              <a:xfrm>
                <a:off x="457200" y="4816440"/>
                <a:ext cx="4343400" cy="1004760"/>
                <a:chOff x="457200" y="4816440"/>
                <a:chExt cx="4343400" cy="1004760"/>
              </a:xfrm>
            </p:grpSpPr>
            <p:grpSp>
              <p:nvGrpSpPr>
                <p:cNvPr id="316" name="Group 39"/>
                <p:cNvGrpSpPr/>
                <p:nvPr/>
              </p:nvGrpSpPr>
              <p:grpSpPr>
                <a:xfrm>
                  <a:off x="457200" y="4816440"/>
                  <a:ext cx="4266360" cy="1004760"/>
                  <a:chOff x="457200" y="4816440"/>
                  <a:chExt cx="4266360" cy="1004760"/>
                </a:xfrm>
              </p:grpSpPr>
              <p:sp>
                <p:nvSpPr>
                  <p:cNvPr id="317" name="Text Box 40"/>
                  <p:cNvSpPr/>
                  <p:nvPr/>
                </p:nvSpPr>
                <p:spPr>
                  <a:xfrm>
                    <a:off x="1471320" y="4816440"/>
                    <a:ext cx="1875240" cy="60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02c24"/>
                        </a:solidFill>
                        <a:latin typeface="Arial"/>
                      </a:rPr>
                      <a:t>Sales Tax Payable</a:t>
                    </a:r>
                    <a:endParaRPr b="0" lang="en-US" sz="1600" spc="-1" strike="noStrike">
                      <a:solidFill>
                        <a:srgbClr val="302c24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" name="Group 41"/>
                  <p:cNvGrpSpPr/>
                  <p:nvPr/>
                </p:nvGrpSpPr>
                <p:grpSpPr>
                  <a:xfrm>
                    <a:off x="457200" y="5287680"/>
                    <a:ext cx="4266360" cy="533520"/>
                    <a:chOff x="457200" y="5287680"/>
                    <a:chExt cx="4266360" cy="533520"/>
                  </a:xfrm>
                </p:grpSpPr>
                <p:sp>
                  <p:nvSpPr>
                    <p:cNvPr id="319" name="Line 42"/>
                    <p:cNvSpPr/>
                    <p:nvPr/>
                  </p:nvSpPr>
                  <p:spPr>
                    <a:xfrm>
                      <a:off x="457200" y="5287680"/>
                      <a:ext cx="42663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Line 43"/>
                    <p:cNvSpPr/>
                    <p:nvPr/>
                  </p:nvSpPr>
                  <p:spPr>
                    <a:xfrm>
                      <a:off x="2590200" y="528768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302c24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1" name="Text Box 57"/>
                <p:cNvSpPr/>
                <p:nvPr/>
              </p:nvSpPr>
              <p:spPr>
                <a:xfrm>
                  <a:off x="2698920" y="5472000"/>
                  <a:ext cx="210168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Mar. 2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	</a:t>
                  </a:r>
                  <a:r>
                    <a:rPr b="0" lang="en-US" sz="1600" spc="-1" strike="noStrike">
                      <a:solidFill>
                        <a:srgbClr val="0066cc"/>
                      </a:solidFill>
                      <a:latin typeface="Arial"/>
                    </a:rPr>
                    <a:t>144.00</a:t>
                  </a:r>
                  <a:endParaRPr b="0" lang="en-US" sz="1600" spc="-1" strike="noStrike">
                    <a:solidFill>
                      <a:srgbClr val="302c2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2" name="Text Box 58"/>
          <p:cNvSpPr/>
          <p:nvPr/>
        </p:nvSpPr>
        <p:spPr>
          <a:xfrm>
            <a:off x="2698920" y="6324480"/>
            <a:ext cx="248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2c24"/>
                </a:solidFill>
                <a:latin typeface="Arial"/>
              </a:rPr>
              <a:t>Mar. 11      1,944.00</a:t>
            </a:r>
            <a:endParaRPr b="0" lang="en-US" sz="16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3" name="Text Box 6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8-1, page 495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02c24"/>
                </a:solidFill>
                <a:latin typeface="Book Antiqua"/>
              </a:rPr>
              <a:t>JOURNALIZING CASH RECEIPTS ON ACCOUNT WITH SALES DISCOUNTS</a:t>
            </a:r>
            <a:endParaRPr b="0" lang="en-US" sz="35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25" name="Picture 5" descr="D:\C21 PowerPoint\Multi_Journal\art for blue\Ch19\Ch19-02b.jpg"/>
          <p:cNvPicPr/>
          <p:nvPr/>
        </p:nvPicPr>
        <p:blipFill>
          <a:blip r:embed="rId2"/>
          <a:srcRect l="0" t="0" r="0" b="83286"/>
          <a:stretch/>
        </p:blipFill>
        <p:spPr>
          <a:xfrm>
            <a:off x="457200" y="178272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609588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228600" y="2468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25909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472428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14440" y="47307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Receipt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14440" y="39924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514440" y="509436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Original Sales Invoice Amount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514440" y="43578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ustomer Nam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514440" y="5456160"/>
            <a:ext cx="35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Sales Tax Reduction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7344360" y="68112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5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15880" y="583740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6. Sales Discount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515880" y="618480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7. Cash Received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391520" y="30780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8001000" y="3078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760" y="30492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2c24"/>
                </a:solidFill>
                <a:latin typeface="Book Antiqua"/>
              </a:rPr>
              <a:t>POSTING FROM A CASH RECEIPTS JOURNAL TO AN ACCOUNTS RECEIVABLE LEDGER</a:t>
            </a:r>
            <a:endParaRPr b="0" lang="en-US" sz="28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42" name="Picture 5" descr="D:\C21 PowerPoint\Multi_Journal\art for blue\Ch19\Ch19-02c.jpg"/>
          <p:cNvPicPr/>
          <p:nvPr/>
        </p:nvPicPr>
        <p:blipFill>
          <a:blip r:embed="rId2"/>
          <a:srcRect l="5561" t="0" r="0" b="62164"/>
          <a:stretch/>
        </p:blipFill>
        <p:spPr>
          <a:xfrm>
            <a:off x="422280" y="1432080"/>
            <a:ext cx="8264520" cy="3332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1"/>
          <p:cNvSpPr/>
          <p:nvPr/>
        </p:nvSpPr>
        <p:spPr>
          <a:xfrm>
            <a:off x="514440" y="55990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Amount Posted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4440" y="4861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14440" y="596268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New Balance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514440" y="52261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Journal Page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14440" y="632448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02c24"/>
                </a:solidFill>
                <a:latin typeface="Arial"/>
              </a:rPr>
              <a:t>Customer Number</a:t>
            </a:r>
            <a:endParaRPr b="0" lang="en-US" sz="20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7344360" y="64602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6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349" name="Group 21"/>
          <p:cNvGrpSpPr/>
          <p:nvPr/>
        </p:nvGrpSpPr>
        <p:grpSpPr>
          <a:xfrm>
            <a:off x="228600" y="2575080"/>
            <a:ext cx="762120" cy="1981080"/>
            <a:chOff x="228600" y="2575080"/>
            <a:chExt cx="762120" cy="1981080"/>
          </a:xfrm>
        </p:grpSpPr>
        <p:sp>
          <p:nvSpPr>
            <p:cNvPr id="350" name="Freeform 18"/>
            <p:cNvSpPr/>
            <p:nvPr/>
          </p:nvSpPr>
          <p:spPr>
            <a:xfrm>
              <a:off x="304920" y="2575080"/>
              <a:ext cx="685800" cy="19810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51" name="Oval 7"/>
            <p:cNvSpPr/>
            <p:nvPr/>
          </p:nvSpPr>
          <p:spPr>
            <a:xfrm>
              <a:off x="228600" y="33372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grpSp>
        <p:nvGrpSpPr>
          <p:cNvPr id="352" name="Group 24"/>
          <p:cNvGrpSpPr/>
          <p:nvPr/>
        </p:nvGrpSpPr>
        <p:grpSpPr>
          <a:xfrm>
            <a:off x="4595760" y="2651040"/>
            <a:ext cx="533520" cy="1752480"/>
            <a:chOff x="4595760" y="2651040"/>
            <a:chExt cx="533520" cy="1752480"/>
          </a:xfrm>
        </p:grpSpPr>
        <p:sp>
          <p:nvSpPr>
            <p:cNvPr id="353" name="Line 19"/>
            <p:cNvSpPr/>
            <p:nvPr/>
          </p:nvSpPr>
          <p:spPr>
            <a:xfrm>
              <a:off x="4876920" y="2651040"/>
              <a:ext cx="0" cy="1752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54" name="Oval 8"/>
            <p:cNvSpPr/>
            <p:nvPr/>
          </p:nvSpPr>
          <p:spPr>
            <a:xfrm>
              <a:off x="4595760" y="356544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sp>
        <p:nvSpPr>
          <p:cNvPr id="355" name="Oval 9"/>
          <p:cNvSpPr/>
          <p:nvPr/>
        </p:nvSpPr>
        <p:spPr>
          <a:xfrm>
            <a:off x="5943600" y="425124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2133720" y="1432080"/>
            <a:ext cx="5638680" cy="3124080"/>
            <a:chOff x="2133720" y="1432080"/>
            <a:chExt cx="5638680" cy="3124080"/>
          </a:xfrm>
        </p:grpSpPr>
        <p:sp>
          <p:nvSpPr>
            <p:cNvPr id="357" name="Freeform 17"/>
            <p:cNvSpPr/>
            <p:nvPr/>
          </p:nvSpPr>
          <p:spPr>
            <a:xfrm>
              <a:off x="2362320" y="1660680"/>
              <a:ext cx="54100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2133720" y="1432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  <p:grpSp>
        <p:nvGrpSpPr>
          <p:cNvPr id="359" name="Group 23"/>
          <p:cNvGrpSpPr/>
          <p:nvPr/>
        </p:nvGrpSpPr>
        <p:grpSpPr>
          <a:xfrm>
            <a:off x="3352680" y="2575080"/>
            <a:ext cx="2362320" cy="685440"/>
            <a:chOff x="3352680" y="2575080"/>
            <a:chExt cx="2362320" cy="685440"/>
          </a:xfrm>
        </p:grpSpPr>
        <p:sp>
          <p:nvSpPr>
            <p:cNvPr id="360" name="Line 20"/>
            <p:cNvSpPr/>
            <p:nvPr/>
          </p:nvSpPr>
          <p:spPr>
            <a:xfrm flipH="1" flipV="1">
              <a:off x="3352680" y="2627280"/>
              <a:ext cx="2362320" cy="633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  <p:sp>
          <p:nvSpPr>
            <p:cNvPr id="361" name="Oval 6"/>
            <p:cNvSpPr/>
            <p:nvPr/>
          </p:nvSpPr>
          <p:spPr>
            <a:xfrm>
              <a:off x="3962520" y="25750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ac6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02c2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2c24"/>
                </a:solidFill>
                <a:latin typeface="Book Antiqua"/>
              </a:rPr>
              <a:t>POSTING TOTALS OF THE SPECIAL AMOUNT COLUMNS OF A CASH RECEIPTS JOURNAL TO A GENERAL LEDGER </a:t>
            </a:r>
            <a:endParaRPr b="0" lang="en-US" sz="28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363" name="Picture 5" descr="D:\C21 PowerPoint\Multi_Journal\art for blue\Ch19\Ch19-02d.jpg"/>
          <p:cNvPicPr/>
          <p:nvPr/>
        </p:nvPicPr>
        <p:blipFill>
          <a:blip r:embed="rId2"/>
          <a:srcRect l="1170" t="0" r="0" b="56886"/>
          <a:stretch/>
        </p:blipFill>
        <p:spPr>
          <a:xfrm>
            <a:off x="457200" y="1600200"/>
            <a:ext cx="7162920" cy="4486320"/>
          </a:xfrm>
          <a:prstGeom prst="rect">
            <a:avLst/>
          </a:prstGeom>
          <a:ln w="0">
            <a:noFill/>
          </a:ln>
        </p:spPr>
      </p:pic>
      <p:sp>
        <p:nvSpPr>
          <p:cNvPr id="364" name="Oval 7"/>
          <p:cNvSpPr/>
          <p:nvPr/>
        </p:nvSpPr>
        <p:spPr>
          <a:xfrm>
            <a:off x="7620120" y="2514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2971800" y="30481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ac6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5715000" y="5246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Place a check mark.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5715000" y="4363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Post each special column total; record account numbers.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9-2, page 497</a:t>
            </a:r>
            <a:endParaRPr b="0" lang="en-US" sz="1200" spc="-1" strike="noStrike">
              <a:solidFill>
                <a:srgbClr val="302c24"/>
              </a:solidFill>
              <a:latin typeface="Times New Roman"/>
            </a:endParaRPr>
          </a:p>
        </p:txBody>
      </p:sp>
      <p:grpSp>
        <p:nvGrpSpPr>
          <p:cNvPr id="369" name="Group 24"/>
          <p:cNvGrpSpPr/>
          <p:nvPr/>
        </p:nvGrpSpPr>
        <p:grpSpPr>
          <a:xfrm>
            <a:off x="3200040" y="2895480"/>
            <a:ext cx="3809880" cy="2667240"/>
            <a:chOff x="3200040" y="2895480"/>
            <a:chExt cx="3809880" cy="2667240"/>
          </a:xfrm>
        </p:grpSpPr>
        <p:grpSp>
          <p:nvGrpSpPr>
            <p:cNvPr id="370" name="Group 22"/>
            <p:cNvGrpSpPr/>
            <p:nvPr/>
          </p:nvGrpSpPr>
          <p:grpSpPr>
            <a:xfrm>
              <a:off x="3657600" y="2895480"/>
              <a:ext cx="609480" cy="1371600"/>
              <a:chOff x="3657600" y="2895480"/>
              <a:chExt cx="609480" cy="1371600"/>
            </a:xfrm>
          </p:grpSpPr>
          <p:sp>
            <p:nvSpPr>
              <p:cNvPr id="371" name="Line 18"/>
              <p:cNvSpPr/>
              <p:nvPr/>
            </p:nvSpPr>
            <p:spPr>
              <a:xfrm flipH="1">
                <a:off x="3657600" y="2895480"/>
                <a:ext cx="533520" cy="1371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sp>
            <p:nvSpPr>
              <p:cNvPr id="372" name="Oval 10"/>
              <p:cNvSpPr/>
              <p:nvPr/>
            </p:nvSpPr>
            <p:spPr>
              <a:xfrm>
                <a:off x="3733920" y="3124080"/>
                <a:ext cx="533160" cy="53352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ac6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23"/>
            <p:cNvGrpSpPr/>
            <p:nvPr/>
          </p:nvGrpSpPr>
          <p:grpSpPr>
            <a:xfrm>
              <a:off x="3200040" y="2895480"/>
              <a:ext cx="3809880" cy="2667240"/>
              <a:chOff x="3200040" y="2895480"/>
              <a:chExt cx="3809880" cy="2667240"/>
            </a:xfrm>
          </p:grpSpPr>
          <p:sp>
            <p:nvSpPr>
              <p:cNvPr id="374" name="Line 20"/>
              <p:cNvSpPr/>
              <p:nvPr/>
            </p:nvSpPr>
            <p:spPr>
              <a:xfrm flipH="1">
                <a:off x="3200040" y="2895480"/>
                <a:ext cx="3809880" cy="26672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  <p:sp>
            <p:nvSpPr>
              <p:cNvPr id="375" name="Oval 21"/>
              <p:cNvSpPr/>
              <p:nvPr/>
            </p:nvSpPr>
            <p:spPr>
              <a:xfrm>
                <a:off x="3733920" y="4648320"/>
                <a:ext cx="533160" cy="53316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ac64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02c2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" name="Text Box 12"/>
          <p:cNvSpPr/>
          <p:nvPr/>
        </p:nvSpPr>
        <p:spPr>
          <a:xfrm>
            <a:off x="5715000" y="3772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2c24"/>
                </a:solidFill>
                <a:latin typeface="Arial"/>
              </a:rPr>
              <a:t>1. Prove and rule the cash receipts journal.</a:t>
            </a:r>
            <a:endParaRPr b="0" lang="en-US" sz="1800" spc="-1" strike="noStrike">
              <a:solidFill>
                <a:srgbClr val="302c2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5:51:14Z</dcterms:created>
  <dc:creator>Mary Colleen McLaughlin</dc:creator>
  <dc:description/>
  <dc:language>en-US</dc:language>
  <cp:lastModifiedBy>David Combs</cp:lastModifiedBy>
  <dcterms:modified xsi:type="dcterms:W3CDTF">2012-09-26T20:32:42Z</dcterms:modified>
  <cp:revision>65</cp:revision>
  <dc:subject/>
  <dc:title>ADJUSTING ENTRY FOR SUPPLIES</dc:title>
</cp:coreProperties>
</file>